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463-B31B-4872-AE20-D2F4D114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8EA-4591-4E3D-9C3C-58D0568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DC7-F644-45A6-AA47-CA9ABD8E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FA6-E792-4B81-B2A6-E3F68750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C63E-91E4-483B-B3A4-EA7898CD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A91-CBD9-4183-B364-E2A68DF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67FA-8B78-46A3-AE3C-2F15E921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D7A0-85ED-4BB7-B5C2-1565E93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50C7-5C9A-4CDB-8C1D-A0F4EAD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C891-2B89-4C6D-9350-CEBF6A40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231-23A9-4BEE-86E1-EA660A6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C3C-BFE3-4E64-A8CE-63F02BF0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3D5-59F9-4A0E-8AF7-5701B56B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DDCD-4CC6-464F-B99C-B5E86997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608-00A5-4387-B733-E006D540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E4C8-4CAD-4038-8ACF-F63F0E30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8F6D-7DFA-409A-AE3B-94627651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9D9-9513-4F3B-B3B5-08F7E8FE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97A-96F9-47B0-B190-94288F3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8392-E6C3-4495-AA22-0F72E2B3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D35-76BA-4D8E-8D58-B0D0B0D1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432-B474-4336-81FC-F0721CC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C10E-158B-4C10-BBD8-D084D24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DAF4-7F27-4E82-843E-9B91040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2F9-E476-43EA-A222-00FD30CA944F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5DF-9230-4DD9-A67F-2B9F571068EC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al / a la / del / de la / en el / en la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019920" y="5638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pañol 1 Capítulo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514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lase de español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5146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restaurant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590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parque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666880" y="3808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oficina del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eposition A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+el=a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+la= a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personal “A” when referring to a person or your loving p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with the verb TE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 habla a mi amigo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 tengo muchas ami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tienda de rop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/>
          <p:cNvSpPr/>
          <p:nvPr/>
        </p:nvSpPr>
        <p:spPr>
          <a:xfrm>
            <a:off x="22860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escuel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286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pluma _______ profes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35053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la chaqueta _______ muchach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6"/>
          <p:cNvSpPr/>
          <p:nvPr/>
        </p:nvSpPr>
        <p:spPr>
          <a:xfrm>
            <a:off x="4191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carro _______ director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2004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reposition 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found in many expressions and has many 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+ el = d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+ la= de 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mean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f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om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De quién es? = who is (referring to 1 ite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¿De quién son= who is (referring to 2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erro _______ profes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3200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upitre _______ alumn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3657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 el padre _______ alumn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4290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sala de ciencias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19051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quié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believe the item or items belong to only 1 person. U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 quién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you believe the item/items belong to 2+ peop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de to show ownership and pos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NO apostrophes in Span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 libro de David.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l libro de Ana y Ma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afeterí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20574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8"/>
          <p:cNvSpPr/>
          <p:nvPr/>
        </p:nvSpPr>
        <p:spPr>
          <a:xfrm>
            <a:off x="19810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ntro _______ coleg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21337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escuela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8"/>
          <p:cNvSpPr/>
          <p:nvPr/>
        </p:nvSpPr>
        <p:spPr>
          <a:xfrm>
            <a:off x="1752480" y="3049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tro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AutoShape 5"/>
          <p:cNvSpPr/>
          <p:nvPr/>
        </p:nvSpPr>
        <p:spPr>
          <a:xfrm>
            <a:off x="51055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182880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234720"/>
            <a:ext cx="83055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oy _______ oficina ______ directo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144792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4800600" y="380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Oval 12"/>
          <p:cNvSpPr/>
          <p:nvPr/>
        </p:nvSpPr>
        <p:spPr>
          <a:xfrm>
            <a:off x="1981080" y="2133720"/>
            <a:ext cx="4876920" cy="3124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9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cafetería ahor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gimnasio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590920" y="304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807696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o voy _______ biblioteca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066680" y="2362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743200" y="2362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066680" y="3505320"/>
            <a:ext cx="129564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743200" y="35053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066680" y="4724280"/>
            <a:ext cx="129564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743200" y="47242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495680" y="2362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572000" y="35053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572000" y="4724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1:19:35Z</dcterms:created>
  <dc:creator>Paul Widergren</dc:creator>
  <dc:description/>
  <dc:language>en-US</dc:language>
  <cp:lastModifiedBy> </cp:lastModifiedBy>
  <dcterms:modified xsi:type="dcterms:W3CDTF">2010-10-26T17:26:12Z</dcterms:modified>
  <cp:revision>8</cp:revision>
  <dc:subject/>
  <dc:title>al / a la / del / de la / en el / en la</dc:title>
</cp:coreProperties>
</file>